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9.png" ContentType="image/png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3800" y="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2960"/>
            <a:ext cx="4889520" cy="366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692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57A5-6A58-4FBE-8BC5-264384C536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орная презентация по одноименной книг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А. Нов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элемент, функция организованных систем различной природы: биологических,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» [Большой энциклопедический словарь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направление движением кого/чего-нибудь, руководство действиями кого-нибудь» [Словарь русского языка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воздействие на управляемую систему с целью обеспечения требуемого ее поведения» [Теория управления орг. системами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ebster’s dictionary предлагает следующие значения терминов «control» и «management», которые соответствуют (в зависимости от объекта управления) русскому термину «управление»: «control – an activity or organization that directs or regulates an activity»; «management – art or science of directing, conducting and administering the work of others to achieve defined objectives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элемент, функция организованных систем различной природы: биологических,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» [Большой энциклопедический словарь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направление движением кого/чего-нибудь, руководство действиями кого-нибудь» [Словарь русского языка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воздействие на управляемую систему с целью обеспечения требуемого ее поведения» [Теория управления орг. системами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ebster’s dictionary предлагает следующие значения терминов «control» и «management», которые соответствуют (в зависимости от объекта управления) русскому термину «управление»: «control – an activity or organization that directs or regulates an activity»; «management – art or science of directing, conducting and administering the work of others to achieve defined objectives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ДЕЯТЕЛЬ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убъекта управл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РГАНИЗАЦИИ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ъекта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ДЕЯТЕЛЬ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убъекта управл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РГАНИЗАЦИИ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ъекта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 КОМПОНЕН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 КОМПОНЕН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, ЛОГИЧЕСКАЯ И ВРЕМ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, ЛОГИЧЕСКАЯ И ВРЕМ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Характеристики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о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Логическая структура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ультат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Временнáя структура управленческой деятельности (её цикл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а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Характеристики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о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Логическая структура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ультат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Временнáя структура управленческой деятельности (её цикл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а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называется достаточное условие для чего-либ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познания, мысли,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называется достаточное условие для чего-либ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познания, мысли,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 Немного истории (эволюция управленческой мысли в трудах философов, социологов, психологов и физиологов, а также собственно, специалистов по управлению) – А. Адлер, Э. Берн, А.А. Богданов, М. Вебер, Л.С. Выготский, А. Гастев, Ф. Герцберг, Э. Дюркгейм, П. Керженцев, Р. Лайкерт, Г. Лебон, А.Н. Леонтьев, А. Маслоу, Д. МакГрегор, Э. Мэйо, И.П. Павлов, Г. Саймон, П. Сорокин, Ф. Тейлор, А. Файоль, З. Фрейд, Э. Фромм, К. Хорни, К. Юнг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 Системы управления и их свойства. Принятие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 Психологические эффекты и феномены в управлении. Аппарат управления как социальная группа. Структура социальной организации, социальные процессы. Социальное партне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 Личность. Типологии личности. Личные качества руководителя, его индивидуальные особенности, свойства (интеллектуальные, волевые, эмоциональные и др.), способности и их развитие. Профессиограммы и профессиональная пригод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 Потребности и их удовлетворение, уровень притязаний. Моти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 Руководство и лидерство. Стили руководства. Организационн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 Адаптация и развитие персонала, профессиональное обу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 Малые группы. Социальные роли. Межличностное общение. Управление конфликтами. Самоупр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 Социально-психологический климат в коллективе. Культура делов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 Различные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ЛОГИЯ И ПСИХОЛОГИЯ УПРАВЛЕНИЯ (типовой учеб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 Немного истории (эволюция управленческой мысли в трудах философов, социологов, психологов и физиологов, а также собственно, специалистов по управлению) – А. Адлер, Э. Берн, А.А. Богданов, М. Вебер, Л.С. Выготский, А. Гастев, Ф. Герцберг, Э. Дюркгейм, П. Керженцев, Р. Лайкерт, Г. Лебон, А.Н. Леонтьев, А. Маслоу, Д. МакГрегор, Э. Мэйо, И.П. Павлов, Г. Саймон, П. Сорокин, Ф. Тейлор, А. Файоль, З. Фрейд, Э. Фромм, К. Хорни, К. Юнг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 Системы управления и их свойства. Принятие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 Психологические эффекты и феномены в управлении. Аппарат управления как социальная группа. Структура социальной организации, социальные процессы. Социальное партне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 Личность. Типологии личности. Личные качества руководителя, его индивидуальные особенности, свойства (интеллектуальные, волевые, эмоциональные и др.), способности и их развитие. Профессиограммы и профессиональная пригод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 Потребности и их удовлетворение, уровень притязаний. Моти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 Руководство и лидерство. Стили руководства. Организационн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 Адаптация и развитие персонала, профессиональное обу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 Малые группы. Социальные роли. Межличностное общение. Управление конфликтами. Самоупр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 Социально-психологический климат в коллективе. Культура делов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 Различные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ЛОГИЯ И ПСИХОЛОГИЯ УПРАВЛЕНИЯ (типовой учеб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И ТЕОР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11. Механизмы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И ТЕОР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11. Механизмы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обобщает проверенные в широкой общественно-исторической практике рациональные формы организации деятельности. В различные исторические периоды развития цивилизации имели место разные основные типы форм организации деятельности, которые получили название организацио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тип – проектно-технологическ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й тип – знаниев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обобщает проверенные в широкой общественно-исторической практике рациональные формы организации деятельности. В различные исторические периоды развития цивилизации имели место разные основные типы форм организации деятельности, которые получили название организацио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тип – проектно-технологическ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й тип – знаниев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Логическ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ременн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Логическ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ременн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ОРГАНИЗАЦИОННОЙ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ОРГАНИЗАЦИОННОЙ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содержания управления как отрасли науки и как вида практической деятельности, анализ их предмета и места в системе научного зн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ировоззренческого, методологического и логико-гносеологического анализа основных идей, понятий, результатов, методов, функций и теорий в науке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ляция законов философии для обогащения содержания закон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остижений теории и практики управления для обогащения содержания категорий и законов философ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возможности и условий использования единых походов к проблемам управления системами различной природы, создания единой теории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й анализ управления в приложении к различным областям человеческой деятельности и различным классам объект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е обоснование основных направлений управленческой теории и пр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и классификация учений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систематизация аксиологических доминант в науке и практике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интегративного понятийного аппарата науки управления, включающего терминологию всех ее тео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ССЛЕДОВАНИЯ В ФИЛОСОФ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содержания управления как отрасли науки и как вида практической деятельности, анализ их предмета и места в системе научного зн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ировоззренческого, методологического и логико-гносеологического анализа основных идей, понятий, результатов, методов, функций и теорий в науке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ляция законов философии для обогащения содержания закон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остижений теории и практики управления для обогащения содержания категорий и законов философ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возможности и условий использования единых походов к проблемам управления системами различной природы, создания единой теории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й анализ управления в приложении к различным областям человеческой деятельности и различным классам объект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е обоснование основных направлений управленческой теории и пр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и классификация учений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систематизация аксиологических доминант в науке и практике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интегративного понятийного аппарата науки управления, включающего терминологию всех ее тео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ССЛЕДОВАНИЯ В ФИЛОСОФ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И КАТЕГОРИИ ОПИСАНИЯ УПРАВЛЕНЧЕСКОЙ ПРА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И КАТЕГОРИИ ОПИСАНИЯ УПРАВЛЕНЧЕСКОЙ ПРА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правленческой деятельности этические нормы носят доминирующий характер – если возникает конфликт между этическими ограничениями и другими критериями – экономической эффективности, целей метасистемы и т.д., то, в первую очередь, принимаемое управленческое решение должно, в первую очередь, удовлетворять существующим этическим нормам, и уже, во-вторых, быть эффективным с точки зрения других критери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в социальных системах в идеале руководитель должен служить нравственным образцом для подчиненных, быть для них и педагогом, и воспита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подчеркнуть социальный характер процесса и результатов управленческой деятельности (особенно в ситуации, когда осуществляется управление людьми). Поэтому, в отличие от внутренней, профессиональной этики, внешняя этика управленческой деятельности реализуется как социальная ответственность управленцев. Сегодня ответственность управленцев за последствия (социальные, экономические, экологические и др.) своих действий (решений) все возрастает и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ЧЕСКИЕ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правленческой деятельности этические нормы носят доминирующий характер – если возникает конфликт между этическими ограничениями и другими критериями – экономической эффективности, целей метасистемы и т.д., то, в первую очередь, принимаемое управленческое решение должно, в первую очередь, удовлетворять существующим этическим нормам, и уже, во-вторых, быть эффективным с точки зрения других критери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в социальных системах в идеале руководитель должен служить нравственным образцом для подчиненных, быть для них и педагогом, и воспита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подчеркнуть социальный характер процесса и результатов управленческой деятельности (особенно в ситуации, когда осуществляется управление людьми). Поэтому, в отличие от внутренней, профессиональной этики, внешняя этика управленческой деятельности реализуется как социальная ответственность управленцев. Сегодня ответственность управленцев за последствия (социальные, экономические, экологические и др.) своих действий (решений) все возрастает и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ЧЕСКИЕ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Субъектность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Самостоятельное целеполагание, осуществляемое субъектом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осредованность результат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Творческий характер управленческой деятель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Необходимость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Ответственность субъекта управления за процесс и результаты своей деятельности и деятельности управляемых им субъектов и/или объ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Развитие и адапт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адап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Субъектность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Самостоятельное целеполагание, осуществляемое субъектом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осредованность результат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Творческий характер управленческой деятель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Необходимость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Ответственность субъекта управления за процесс и результаты своей деятельности и деятельности управляемых им субъектов и/или объ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Развитие и адапт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адап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иерарх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ниф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целенаправ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крыт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ветств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евмеш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-государствен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олноты и прогноз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гламентации и ресурсного обеспе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ратной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еква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а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ежающего отра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ап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циональной централ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емократическ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гласова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тичности (доминирования этических нор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иерарх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ниф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целенаправ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крыт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ветств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евмеш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-государствен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олноты и прогноз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гламентации и ресурсного обеспе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ратной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еква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а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ежающего отра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ап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циональной централ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емократическ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гласова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тичности (доминирования этических нор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 (иерархии). Система управления имеет, как правило, иерархическую структуру. Она должна соответствовать структуре управляемой системы и не должна противоречить иерархии смежных (по горизонтали и вертикали) сис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 (унификации). Управляемые и управляющие системы и подсистемы всех уровней должны описываться и рассматриваться в рамках единых принципов (как с точки зрения параметров их моделей, так и с точки зрения критериев эффективности функционирования), не исключающих, впрочем, необходимости учета специфики каждой конкрет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3 (целенаправленности). Любое воздействие системы управления на управляемую систему должно быть целенаправл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4 (открытости). Функционирование системы управления должно быть открытым для информации, инноваций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5 (эффективности). Система управления должна реализовывать наиболее эффективные из допустимых управляющих воз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6 (ответственности). Система управления несет ответственность за принимаемые решения и за эффективность функционирования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 (иерархии). Система управления имеет, как правило, иерархическую структуру. Она должна соответствовать структуре управляемой системы и не должна противоречить иерархии смежных (по горизонтали и вертикали) сис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 (унификации). Управляемые и управляющие системы и подсистемы всех уровней должны описываться и рассматриваться в рамках единых принципов (как с точки зрения параметров их моделей, так и с точки зрения критериев эффективности функционирования), не исключающих, впрочем, необходимости учета специфики каждой конкрет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3 (целенаправленности). Любое воздействие системы управления на управляемую систему должно быть целенаправл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4 (открытости). Функционирование системы управления должно быть открытым для информации, инноваций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5 (эффективности). Система управления должна реализовывать наиболее эффективные из допустимых управляющих воз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6 (ответственности). Система управления несет ответственность за принимаемые решения и за эффективность функционирования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7 (невмешательства). Вмешательство управляющего органа любого уровня происходит в том и только в том случае, когда непосредственно подчиненные ему элементы не обеспечивают (в настоящее время и/или с учетом прогноза) реализации комплекса необходимых фун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8 (общественно-государственного управления, соучастия). Управление социальной системой должно быть нацелено на максимальное вовлечение всех заинтересованных субъектов (общество, органы государственной власти, физические и юридические лица) в совершенствование функционирования управляемой системы и самой систем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9 (саморазвития). Одним из управляющих воздействий является изменение самой системы управления (которое, будучи индуцированным изнутри, может рассматриваться как саморазвитие). То же касается и развития управляем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0 (полноты и прогнозирования). Предлагаемый набор управляющих воздействий должен в заданном диапазоне внешних условий обеспечивать достижение поставленных целей (требование полноты) оптимальным (и/или допустимым) способом с учетом возможных реакций управляемой системы на те или иные управляющие воздействия в прогнозируемых внешн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1 (регламентации и ресурсного обеспечения управленческой деятельности). Управленческая деятельность должна быть регламентирована (стандартизована) и соответствовать ограничениям, установленным метасистемой (системой более высокого уровня иерархии). Любое управленческое решение должно быть допустимым, в том числе – с точки зрения обеспеченности требуемыми ресурс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7 (невмешательства). Вмешательство управляющего органа любого уровня происходит в том и только в том случае, когда непосредственно подчиненные ему элементы не обеспечивают (в настоящее время и/или с учетом прогноза) реализации комплекса необходимых фун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8 (общественно-государственного управления, соучастия). Управление социальной системой должно быть нацелено на максимальное вовлечение всех заинтересованных субъектов (общество, органы государственной власти, физические и юридические лица) в совершенствование функционирования управляемой системы и самой систем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9 (саморазвития). Одним из управляющих воздействий является изменение самой системы управления (которое, будучи индуцированным изнутри, может рассматриваться как саморазвитие). То же касается и развития управляем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0 (полноты и прогнозирования). Предлагаемый набор управляющих воздействий должен в заданном диапазоне внешних условий обеспечивать достижение поставленных целей (требование полноты) оптимальным (и/или допустимым) способом с учетом возможных реакций управляемой системы на те или иные управляющие воздействия в прогнозируемых внешн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1 (регламентации и ресурсного обеспечения управленческой деятельности). Управленческая деятельность должна быть регламентирована (стандартизована) и соответствовать ограничениям, установленным метасистемой (системой более высокого уровня иерархии). Любое управленческое решение должно быть допустимым, в том числе – с точки зрения обеспеченности требуемыми ресурс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2 (обратной связи). Для эффективного управления, как правило, необходима информация о состоянии управляемой системы и условиях ее функционирования, причем реализация любого управляющего воздействия и ее последствия должны отслеживаться, контролироваться субъектом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3 (адекватности). Система управления (ее структура, сложность, функции и т.д.) должна быть адекватна (соответственно, структуре, сложности, функциям и т.д.) управляемой системы. Задачи, которые стоят перед управляемой системой, должны быть адекватны его возможно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4 (оперативности). При управлении в режиме реального времени информация, необходимая для принятия решений, поступала вовремя, сами управленческие решения принимались и реализовывались оперативно в соответствии с изменениями управляемой системы и внешних условий ее функционирования. Другими словами, характерное время выработки и реализации управленческих решений не должно превышать характерное время изменений управляемой системы (то есть система управления должна быть адекватна управляемым процессам в смысле скорости их изменен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5 (опережающего отражения). Сложная адаптивная система прогнозирует возможные изменения существенных внешних параметров. Следовательно, при выработке управляющих воздействий необходимо предсказывать и упреждать такие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2 (обратной связи). Для эффективного управления, как правило, необходима информация о состоянии управляемой системы и условиях ее функционирования, причем реализация любого управляющего воздействия и ее последствия должны отслеживаться, контролироваться субъектом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3 (адекватности). Система управления (ее структура, сложность, функции и т.д.) должна быть адекватна (соответственно, структуре, сложности, функциям и т.д.) управляемой системы. Задачи, которые стоят перед управляемой системой, должны быть адекватны его возможно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4 (оперативности). При управлении в режиме реального времени информация, необходимая для принятия решений, поступала вовремя, сами управленческие решения принимались и реализовывались оперативно в соответствии с изменениями управляемой системы и внешних условий ее функционирования. Другими словами, характерное время выработки и реализации управленческих решений не должно превышать характерное время изменений управляемой системы (то есть система управления должна быть адекватна управляемым процессам в смысле скорости их изменен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5 (опережающего отражения). Сложная адаптивная система прогнозирует возможные изменения существенных внешних параметров. Следовательно, при выработке управляющих воздействий необходимо предсказывать и упреждать такие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6 (адаптивности). Во-первых, при принятии управленческих решений необходимо учитывать имеющуюся информацию об истории функционирования управляемой системы, а, во-вторых, однажды принятые решения (и даже принципы их принятия) должны периодически (см. принцип оперативности) пересматриваться в соответствии с изменениями состояния управляемой системы и условий ее функ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7 (рациональной централизации). В любой сложной многоуровневой системе существует рациональный уровень централизации управления, полномочий, ответственности, информированности, ресурсов и т.д. Рациональная централизация, в том числе, подразумевает адекватную декомпозицию и агрегирование целей, задач, функций, рес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8 (демократического управления). Иногда его называют принципом анонимности. Этот принцип заключается в обеспечении равных условий и возможностей для всех участников управляемой системы без какой-либо их априорной дискриминации в получении информационных, материальных, финансовых, образовательных и друг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9 (согласованности). Управляющие воздействия в рамках существующих институциональных ограничений должны быть максимально согласованы с интересами и предпочтениями управляемых су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0 (этичности, гуманизма). При принятии управленческих решений учет существующих в обществе, организации и т.д. этических норм имеет приоритет перед другими критерия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6 (адаптивности). Во-первых, при принятии управленческих решений необходимо учитывать имеющуюся информацию об истории функционирования управляемой системы, а, во-вторых, однажды принятые решения (и даже принципы их принятия) должны периодически (см. принцип оперативности) пересматриваться в соответствии с изменениями состояния управляемой системы и условий ее функ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7 (рациональной централизации). В любой сложной многоуровневой системе существует рациональный уровень централизации управления, полномочий, ответственности, информированности, ресурсов и т.д. Рациональная централизация, в том числе, подразумевает адекватную декомпозицию и агрегирование целей, задач, функций, рес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8 (демократического управления). Иногда его называют принципом анонимности. Этот принцип заключается в обеспечении равных условий и возможностей для всех участников управляемой системы без какой-либо их априорной дискриминации в получении информационных, материальных, финансовых, образовательных и друг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9 (согласованности). Управляющие воздействия в рамках существующих институциональных ограничений должны быть максимально согласованы с интересами и предпочтениями управляемых су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0 (этичности, гуманизма). При принятии управленческих решений учет существующих в обществе, организации и т.д. этических норм имеет приоритет перед другими критерия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4. 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4. 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И НАУКИ ОБ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 имеет ту же общую логическую структуру, что и любая другая практическая деятельность. В силу своей специфики (в частности, направленности на деятельность управляемого субъекта) логическая структура управленческой деятельности, точнее – «внешняя» ее составляющая, описывается и общими подходами теории управления. Поэтому, рассмотрим структуру теории управления. Говоря о формах, методах, средствах и т.д. управления будем, в основном, иметь в виду не столько формы, методы и средства деятельности субъекта управления, сколько формы, методы и средства его взаимодействия с управляемым субъект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является учением об организации управленческой деятельности, то есть деятельности субъекта управления. Наука об управлении («теория управления» на жаргоне своих представителей) акцентирует свое внимание, в основном, на взаимодействии субъекта управления и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И НАУКИ ОБ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 имеет ту же общую логическую структуру, что и любая другая практическая деятельность. В силу своей специфики (в частности, направленности на деятельность управляемого субъекта) логическая структура управленческой деятельности, точнее – «внешняя» ее составляющая, описывается и общими подходами теории управления. Поэтому, рассмотрим структуру теории управления. Говоря о формах, методах, средствах и т.д. управления будем, в основном, иметь в виду не столько формы, методы и средства деятельности субъекта управления, сколько формы, методы и средства его взаимодействия с управляемым субъект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является учением об организации управленческой деятельности, то есть деятельности субъекта управления. Наука об управлении («теория управления» на жаргоне своих представителей) акцентирует свое внимание, в основном, на взаимодействии субъекта управления и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 ЗАДАЧ И ФУНКЦИЙ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 ЗАДАЧ И ФУНКЦИЙ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(ВИДЫ)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(ВИДЫ)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ей называется форма организации достоверного научного знания о некоторой совокупности объектов, представляющая собой систему взаимосвязанных утверждений и доказательств и содержащая методы объяснения и предсказания явлений и процессов данной предметной области, то есть всех явлений и процессов, описываемых данной те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научная теория состоит, во-первых, из взаимосвязанных структурных компонентов. Во-вторых, любая теория имеет в своем исходном базисе центральный системообразующий эле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м системообразующим элементом теории управления (социальными, организационными и др. системами) является категория организации, так как управление – процесс организации, в результате которого в управляемой системе появляется организация как свой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ей называется форма организации достоверного научного знания о некоторой совокупности объектов, представляющая собой систему взаимосвязанных утверждений и доказательств и содержащая методы объяснения и предсказания явлений и процессов данной предметной области, то есть всех явлений и процессов, описываемых данной те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научная теория состоит, во-первых, из взаимосвязанных структурных компонентов. Во-вторых, любая теория имеет в своем исходном базисе центральный системообразующий эле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м системообразующим элементом теории управления (социальными, организационными и др. системами) является категория организации, так как управление – процесс организации, в результате которого в управляемой системе появляется организация как свой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– это учение об организации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методологии – организация человече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НДИВИДУАЛЬНОЙ ИЛИ КОЛЛЕКТИВ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САЙ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WWW.METHODOLOG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– это учение об организации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методологии – организация человече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НДИВИДУАЛЬНОЙ ИЛИ КОЛЛЕКТИВ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САЙ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WWW.METHODOLOG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Ы ТЕОР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Ы ТЕОР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5. ВРЕМЕНН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5. ВРЕМЕНН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 РЕАЛИЗАЦИИ ФАЗ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 УПРАВЛЕНИЯ И УПРАВЛЯЕМОГО СУБЪЕК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 РЕАЛИЗАЦИИ ФАЗ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 УПРАВЛЕНИЯ И УПРАВЛЯЕМОГО СУБЪЕК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КОМПОНЕНТ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КОМПОНЕНТ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ЗЫ, СТАДИИ И ЭТАП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ЗЫ, СТАДИИ И ЭТАП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6. ЛИТЕРАТУРА К ГЛАВЕ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ков В.Н., Новиков Д.А., Коргин Н.А. Введение в теорию управления организационными системами: Учебник. – М.: Книжный дом «ЛИБРОКОМ»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ковский А.Г. К методологии и философии кибернетики. – М.: ИПУ РАН,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ер Н. Кибернетика или управление и связь в животном и машине. – М.: Наука, 19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н Т. Структура научных революций. – Москва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ричев О.И. Наука и искусство принятия решений. – М.: Наука, 197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А.М., Новиков Д.А. Методология. – М.: Синтег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 Д.А. Методология управления. – М.: Книжный дом «ЛИБРОКОМ»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Д.А. Теория управления организационными системами. –  М.: Физматлит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удов Ф.И., Тарасенко Ф.П. Введение в системный анализ. – М.: Высшая школа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ов Б.Я., Яковлев С.А. Моделирование систем. – М.: Высшая школа, 199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шби У.Р. Введение в кибернетику. – М.: Изд-во иностранной литературы. 19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работы, или ссылки на них, можно найти в свободном доступ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электронной библиотеке на сайте www.mta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6. ЛИТЕРАТУРА К ГЛАВЕ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ков В.Н., Новиков Д.А., Коргин Н.А. Введение в теорию управления организационными системами: Учебник. – М.: Книжный дом «ЛИБРОКОМ»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ковский А.Г. К методологии и философии кибернетики. – М.: ИПУ РАН,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ер Н. Кибернетика или управление и связь в животном и машине. – М.: Наука, 19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н Т. Структура научных революций. – Москва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ричев О.И. Наука и искусство принятия решений. – М.: Наука, 197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А.М., Новиков Д.А. Методология. – М.: Синтег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 Д.А. Методология управления. – М.: Книжный дом «ЛИБРОКОМ»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Д.А. Теория управления организационными системами. –  М.: Физматлит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удов Ф.И., Тарасенко Ф.П. Введение в системный анализ. – М.: Высшая школа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ов Б.Я., Яковлев С.А. Моделирование систем. – М.: Высшая школа, 199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шби У.Р. Введение в кибернетику. – М.: Изд-во иностранной литературы. 19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работы, или ссылки на них, можно найти в свободном доступ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электронной библиотеке на сайте www.mta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- активное взаимодействие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кружающей действительность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которого человек выступает как субъект, целенаправленно воздействующий на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довлетворяющий таким образом свои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ПОНЯТИЕ О ЧЕЛОВЕЧЕСКОЙ ДЕ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- активное взаимодействие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кружающей действительность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которого человек выступает как субъект, целенаправленно воздействующий на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довлетворяющий таким образом свои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ПОНЯТИЕ О ЧЕЛОВЕЧЕСКОЙ ДЕ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И КОНКРЕТНЫХ ДЕЯТЕЛЬ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И КОНКРЕТНЫХ ДЕЯТЕЛЬ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– целенаправленная актив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– целенаправленная актив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499-92E5-4C8F-B2FE-4B2B8FE1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AC7-4342-475F-9901-D520E872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464-7E03-4C25-8C0B-5E79CC07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73D-0C5A-4384-B73D-101A98BE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615-B72C-437E-B687-353328C0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B75-BE28-4565-B8E7-DD15EA0B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3A9-CF37-489A-A762-8081543A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9E1-FF98-490E-8272-59CFE2C3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FDE-AC50-4C03-8670-C7AC451B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82E-F043-41B9-91A3-20E296E6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BDA-9037-4AE1-BE84-CA7D99CF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33D-3CE9-4B07-8411-752939DD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еханизмы управления. Глава 2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3E06-B651-4827-A087-D9797A12D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thodolog.ru/books/methodology_full.pd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thodolog.r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mtas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85800"/>
            <a:ext cx="9144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ТОДОЛОГИЯ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опорная презентация по одноименной книг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8149320" y="61815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1476360" y="3465360"/>
            <a:ext cx="2147760" cy="1731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1258920" y="5321160"/>
            <a:ext cx="2583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.А. Нов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cover1"/>
          <p:cNvPicPr/>
          <p:nvPr/>
        </p:nvPicPr>
        <p:blipFill>
          <a:blip r:embed="rId2"/>
          <a:stretch/>
        </p:blipFill>
        <p:spPr>
          <a:xfrm>
            <a:off x="5245200" y="1957320"/>
            <a:ext cx="2863800" cy="3868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172440" y="620856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6160" y="716040"/>
            <a:ext cx="86425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– «элемент, функция организованных систем различной природы: биологических,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»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ольшой энциклопедический словарь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– «направление движением кого/чего-нибудь, руководство действиями кого-нибудь» [Словарь русского языка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– «воздействие на управляемую систему с целью обеспечения требуемого ее поведения» [Теория управления орг. системами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bster’s dictionary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едлагает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ледующи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значения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ерминов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«control»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«management»,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оторы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оответствуют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зависимост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бъект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правления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усскому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ермину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«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»: «control – an activity or organization that directs or regulates an activity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; «management – art or science of directing, conducting and administering the work of others to achieve defined objectives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2387520" y="4890960"/>
          <a:ext cx="430380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4890960"/>
                    <a:ext cx="430380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ПРАВЛЕНИЕ – ДЕЯТЕЛЬНОСТЬ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субъекта управления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ПО ОРГАНИЗАЦИИ ДЕЯТЕЛЬНОСТИ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объекта управлени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5"/>
          <p:cNvGraphicFramePr/>
          <p:nvPr/>
        </p:nvGraphicFramePr>
        <p:xfrm>
          <a:off x="1763640" y="2421000"/>
          <a:ext cx="5329440" cy="30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421000"/>
                    <a:ext cx="532944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6"/>
          <p:cNvSpPr/>
          <p:nvPr/>
        </p:nvSpPr>
        <p:spPr>
          <a:xfrm>
            <a:off x="684360" y="544500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руктура системы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НЫЕ КОМПОНЕНТ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468360" y="692280"/>
          <a:ext cx="8316720" cy="57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92280"/>
                    <a:ext cx="8316720" cy="57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250920" y="1125360"/>
          <a:ext cx="8700840" cy="482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700840" cy="48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4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АРАКТЕРИСТИКИ, ЛОГИЧЕСКАЯ И ВРЕМЕННА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А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44400" y="890280"/>
            <a:ext cx="828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1. Характеристики управленческ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. Логическая структура управленческ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предм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мет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результат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3. Временнáя структура управленческой деятельности (её цикл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ф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ста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эта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А МЕТОДОЛОГ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055000" y="62434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2. ОСНОВАНИЯ МЕТОДОЛОГ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СНОВАНИЯ МЕТОДОЛОГИИ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6"/>
          <p:cNvGraphicFramePr/>
          <p:nvPr/>
        </p:nvGraphicFramePr>
        <p:xfrm>
          <a:off x="893880" y="2039760"/>
          <a:ext cx="7808760" cy="37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2039760"/>
                    <a:ext cx="7808760" cy="37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7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Я МЕТОД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8075520" y="624348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611280" y="9651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снованием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называется достаточное условие для чего-либо: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ытия, познания, мысли,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3760" y="812520"/>
            <a:ext cx="905184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1) Немного истории (эволюция управленческой мысли в трудах философов, социологов, психологов и физиологов, а также собственно, специалистов по управлению) – А. Адлер, Э. Берн, А.А. Богданов, М. Вебер, Л.С. Выготский, А. Гастев, Ф. Герцберг, Э. Дюркгейм, П. Керженцев, Р. Лайкерт, Г. Лебон, А.Н. Леонтьев, А. Маслоу, Д. МакГрегор, Э.</a:t>
            </a: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Мэйо, И.П. Павлов, Г. Саймон, П. Сорокин, Ф. Тейлор, А.</a:t>
            </a: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Файоль, З. Фрейд, Э. Фромм, К. Хорни, К. Юнг и д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2) Системы управления и их свойства. Принятие управленческих реш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3) Психологические эффекты и феномены в управлении. Аппарат управления как социальная группа. Структура социальной организации, социальные процессы. Социальное партнерств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4) Личность. Типологии личности. Личные качества руководителя, его индивидуальные особенности, свойства (интеллектуальные, волевые, эмоциональные и др.), способности и их развитие. Профессиограммы и профессиональная пригодност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5) Потребности и их удовлетворение, уровень притязаний. Мотивац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6) Руководство и лидерство. Стили руководства. Организационная культу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7) Адаптация и развитие персонала, профессиональное обуч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8) Малые группы. Социальные роли. Межличностное общение. Управление конфликтами. Самоуправл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9) Социально-психологический климат в коллективе. Культура делового общ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10) Различные тес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ОЛОГИЯ И ПСИХОЛОГИЯ УПРАВЛЕНИЯ (типовой учебн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8042400" y="6243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ЕДЖМЕНТ И ТЕОРИЯ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14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58680" y="784080"/>
          <a:ext cx="9009000" cy="537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784080"/>
                    <a:ext cx="9009000" cy="53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5"/>
          <p:cNvSpPr/>
          <p:nvPr/>
        </p:nvSpPr>
        <p:spPr>
          <a:xfrm>
            <a:off x="172440" y="6270480"/>
            <a:ext cx="60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11. Механизмы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048520" y="624348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92120" y="122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етодология обобщает проверенные в широкой общественно-исторической практике рациональные формы организации деятельности. В различные исторические периоды развития цивилизации имели место разные основные типы форм организации деятельности, которые получили название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организацион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овременный тип – проектно-технологическая куль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ледующий тип – знаниевая куль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ОННАЯ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663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. Управлен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. Основания методологии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. Характеристики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. Логическая структура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5. Временная структура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6.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149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РГАНИЗАЦИОНН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169920" y="1295280"/>
          <a:ext cx="8866080" cy="44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295280"/>
                    <a:ext cx="886608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4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6"/>
          <p:cNvGraphicFramePr/>
          <p:nvPr/>
        </p:nvGraphicFramePr>
        <p:xfrm>
          <a:off x="816120" y="930240"/>
          <a:ext cx="710064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930240"/>
                    <a:ext cx="710064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64960" y="831240"/>
            <a:ext cx="874404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Выявление содержания управления как отрасли науки и как вида практической деятельности, анализ их предмета и места в системе научного зна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Осуществление мировоззренческого, методологического и логико-гносеологического анализа основных идей, понятий, результатов, методов, функций и теорий в науке об управлен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Трансляция законов философии для обогащения содержания законов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Использование достижений теории и практики управления для обогащения содержания категорий и законов философ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Обоснование возможности и условий использования единых походов к проблемам управления системами различной природы, создания единой теории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Методологический анализ управления в приложении к различным областям человеческой деятельности и различным классам объектов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Философское обоснование основных направлений управленческой теории и практи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Систематизация и классификация учений об управлен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Выявление и систематизация аксиологических доминант в науке и практике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Формирование интегративного понятийного аппарата науки управления, включающего терминологию всех ее теори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И ИССЛЕДОВАНИЯ В ФИЛОСОФ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РОВНИ И КАТЕГОРИИ ОПИСАНИЯ УПРАВЛЕНЧЕСКОЙ ПРА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7"/>
          <p:cNvGraphicFramePr/>
          <p:nvPr/>
        </p:nvGraphicFramePr>
        <p:xfrm>
          <a:off x="54000" y="836640"/>
          <a:ext cx="430200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836640"/>
                    <a:ext cx="430200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10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9"/>
          <p:cNvGraphicFramePr/>
          <p:nvPr/>
        </p:nvGraphicFramePr>
        <p:xfrm>
          <a:off x="3348000" y="2971800"/>
          <a:ext cx="5796000" cy="32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2971800"/>
                    <a:ext cx="57960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230040" y="915480"/>
            <a:ext cx="860436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В управленческой деятельности этические нормы носят доминирующий характер</a:t>
            </a: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 – если возникает конфликт между этическими ограничениями и другими критериями – экономической эффективности, целей метасистемы и т.д., то, в первую очередь, принимаемое управленческое решение должно, в первую очередь, удовлетворять существующим этическим нормам, и уже, во-вторых, быть эффективным с точки зрения других критерие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Кроме того, в социальных системах в идеале руководитель должен служить нравственным образцом для подчиненных, быть для них и педагогом, и воспитателе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Необходимо подчеркнуть </a:t>
            </a: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социальный характер процесса и результатов управленческой деятельности</a:t>
            </a: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 (особенно в ситуации, когда осуществляется управление людьми). Поэтому, в отличие от внутренней, профессиональной этики, внешняя этика управленческой деятельности реализуется как социальная ответственность управленцев. Сегодня ответственность управленцев за последствия (социальные, экономические, экологические и др.) своих действий (решений) все возрастает и возраста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ЧЕСКИ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3. ХАРАКТЕРИСТИКИ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АРАКТЕРИСТИК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АРАКТЕРИСТИКИ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836640"/>
          <a:ext cx="8642160" cy="5289480"/>
        </p:xfrm>
        <a:graphic>
          <a:graphicData uri="http://schemas.openxmlformats.org/drawingml/2006/table">
            <a:tbl>
              <a:tblPr/>
              <a:tblGrid>
                <a:gridCol w="1746000"/>
                <a:gridCol w="6896160"/>
              </a:tblGrid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правленческой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обенности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 Субъектность управленческ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 Самостоятельное целеполагание, осуществляемое субъектом управленческой деятельности (субъектом управлени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 Опосредованность результата управленческ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 Творческий характер управленческ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 Необходимость моделирования (прогнозирования поведения управляемой системы в зависимости от управляющих воздействий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 Ответственность субъекта управления за процесс и результаты своей деятельности и деятельности управляемых им субъектов и/или объект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 Адаптивность и развит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инци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инципы: иерархии; унификации; целенаправленности; открытости; эффективности; ответственности; невмешательства; общественно-государственного управления; развития; полноты и прогнозирования; регламентации и ресурсного обеспечения; обратной связи; адекватности; оперативности; опережающего отражения; адаптивности; рациональной централизации; демократического управления; согласованности; этич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тивационные, кадровые, материально-технические, научно-методические, организационные, финансовые, нормативно-правовые, информацион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рм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) общ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) специф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щечеловеческие этические, правовые и другие нор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рмы управленческой этики, организационная культу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83736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Субъектность управлен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 Самостоятельное целеполагание, осуществляемое субъектом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 Опосредованность результата управлен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 Творческий характер управленческой деятельност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Необходимость моделирова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Ответственность субъекта управления за процесс и результаты своей деятельности и деятельности управляемых им субъектов и/или объекто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Развитие и адапт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867280" y="4797360"/>
            <a:ext cx="21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ровни адап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7"/>
          <p:cNvGraphicFramePr/>
          <p:nvPr/>
        </p:nvGraphicFramePr>
        <p:xfrm>
          <a:off x="971640" y="3670200"/>
          <a:ext cx="4608360" cy="25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670200"/>
                    <a:ext cx="4608360" cy="25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1447-647A-437F-B340-06F37B8358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0" y="20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23760" y="753120"/>
            <a:ext cx="6273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иерарх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унифик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целенаправл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ткрыт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эффе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тветств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невмешатель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бщественно-государственного 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полноты и прогноз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регламентации и ресурсного обеспе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братной связ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адеква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пера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пережающего отра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адап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рациональной централ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демократического 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согласов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этичности (доминирования этических нор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1"/>
          <p:cNvGraphicFramePr/>
          <p:nvPr/>
        </p:nvGraphicFramePr>
        <p:xfrm>
          <a:off x="4700520" y="615960"/>
          <a:ext cx="443232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615960"/>
                    <a:ext cx="44323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1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3"/>
          <p:cNvGraphicFramePr/>
          <p:nvPr/>
        </p:nvGraphicFramePr>
        <p:xfrm>
          <a:off x="4970520" y="4365720"/>
          <a:ext cx="4168800" cy="20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0520" y="4365720"/>
                    <a:ext cx="416880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0AE9-D4E3-42F2-8B60-C61542BF65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68360" y="831600"/>
            <a:ext cx="835344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иерархи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Система управления имеет, как правило, иерархическую структуру. Она должна соответствовать структуре управляемой системы и не должна противоречить иерархии смежных (по горизонтали и вертикали) сист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2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унификаци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Управляемые и управляющие системы и подсистемы всех уровней должны описываться и рассматриваться в рамках единых принципов (как с точки зрения параметров их моделей, так и с точки зрения критериев эффективности функционирования), не исключающих, впрочем, необходимости учета специфики каждой конкретной систе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3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целенаправлен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Любое воздействие системы управления на управляемую систему должно быть целенаправленны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4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ткрыт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Функционирование системы управления должно быть открытым для информации, инноваций и т.д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5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эффектив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Система управления должна реализовывать наиболее эффективные из допустимых управляющих воздейств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6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тветствен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Система управления несет ответственность за принимаемые решения и за эффективность функционирования управляемой систе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1. УПРАВЛЕНЧЕСК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ПРАВЛЕН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659640" y="6245280"/>
            <a:ext cx="202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-</a:t>
            </a:r>
            <a:fld id="{21B989A3-6720-49D9-A821-A60F71AA7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33200" y="77976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7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невмешательства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мешательство управляющего органа любого уровня происходит в том и только в том случае, когда непосредственно подчиненные ему элементы не обеспечивают (в настоящее время и/или с учетом прогноза) реализации комплекса необходимых функ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8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общественно-государственного управления, соучаст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Управление социальной системой должно быть нацелено на максимальное вовлечение всех заинтересованных субъектов (общество, органы государственной власти, физические и юридические лица) в совершенствование функционирования управляемой системы и самой системы упр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9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саморазвит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Одним из управляющих воздействий является изменение самой системы управления (которое, будучи индуцированным изнутри, может рассматриваться как саморазвитие). То же касается и развития управляем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0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полноты и прогнозирован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Предлагаемый набор управляющих воздействий должен в заданном диапазоне внешних условий обеспечивать достижение поставленных целей (требование полноты) оптимальным (и/или допустимым) способом с учетом возможных реакций управляемой системы на те или иные управляющие воздействия в прогнозируемых внешних услов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1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регламентации и ресурсного обеспечения управленческой деятельност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Управленческая деятельность должна быть регламентирована (стандартизована) и соответствовать ограничениям, установленным метасистемой (системой более высокого уровня иерархии). Любое управленческое решение должно быть допустимым, в том числе – с точки зрения обеспеченности требуемыми ресурс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0EFB-A1D9-436C-8BB9-C4519E2CD3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57320" y="875880"/>
            <a:ext cx="871380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2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братной связ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Для эффективного управления, как правило, необходима информация о состоянии управляемой системы и условиях ее функционирования, причем реализация любого управляющего воздействия и ее последствия должны отслеживаться, контролироваться субъектом упр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3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адекват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Система управления (ее структура, сложность, функции и т.д.) должна быть адекватна (соответственно, структуре, сложности, функциям и т.д.) управляемой системы. Задачи, которые стоят перед управляемой системой, должны быть адекватны его возможностям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4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ператив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При управлении в режиме реального времени информация, необходимая для принятия решений, поступала вовремя, сами управленческие решения принимались и реализовывались оперативно в соответствии с изменениями управляемой системы и внешних условий ее функционирования. Другими словами, характерное время выработки и реализации управленческих решений не должно превышать характерное время изменений управляемой системы (то есть система управления должна быть адекватна управляемым процессам в смысле скорости их изменений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5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пережающего отражения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 С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ложная адаптивная система прогнозирует возможные изменения существенных внешних параметров. Следовательно, при выработке управляющих воздействий необходимо предсказывать и упреждать такие измен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BD73-65D8-47B8-A201-210C4E2428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79280" y="77616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6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адаптивност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Во-первых, при принятии управленческих решений необходимо учитывать имеющуюся информацию об истории функционирования управляемой системы, а, во-вторых, однажды принятые решения (и даже принципы их принятия) должны периодически (см. принцип оперативности) пересматриваться в соответствии с изменениями состояния управляемой системы и условий ее функцион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7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рациональной централизаци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 любой сложной многоуровневой системе существует рациональный уровень централизации управления, полномочий, ответственности, информированности, ресурсов и т.д. Рациональная централизация, в том числе, подразумевает адекватную декомпозицию и агрегирование целей, задач, функций, ресурс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8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демократического управлен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Иногда его называют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принципом анонимност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Этот принцип заключается в обеспечении равных условий и возможностей для всех участников управляемой системы без какой-либо их априорной дискриминации в получении информационных, материальных, финансовых, образовательных и других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9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согласованност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Управляющие воздействия в рамках существующих институциональных ограничений должны быть максимально согласованы с интересами и предпочтениями управляемых су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20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этичности, гуманизма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При принятии управленческих решений учет существующих в обществе, организации и т.д. этических норм имеет приоритет перед другими критериям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4. ЛОГИЧЕСК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огическая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D106-48F3-44CB-A562-D38B047F7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УПРАВЛЕНИЯ И НАУКИ ОБ УПР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7"/>
          <p:cNvGraphicFramePr/>
          <p:nvPr/>
        </p:nvGraphicFramePr>
        <p:xfrm>
          <a:off x="5076720" y="836640"/>
          <a:ext cx="383544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836640"/>
                    <a:ext cx="383544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3"/>
          <p:cNvSpPr/>
          <p:nvPr/>
        </p:nvSpPr>
        <p:spPr>
          <a:xfrm>
            <a:off x="233280" y="354384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правленческая деятельность имеет ту же общую логическую структуру, что и любая другая практическая деятельнос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. В силу своей специфики (в частности, направленности на деятельность управляемого субъекта) логическая структура управленческой деятельности, точнее – «внешняя» ее составляющая, описывается и общими подходами теории управления. Поэтому, рассмотрим структуру теории управления. Говоря о формах, методах, средствах и т.д. управления будем, в основном, иметь в виду не столько формы, методы и средства деятельности субъекта управления, сколько формы, методы и средства его взаимодействия с управляемым субъекто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282600" y="640440"/>
            <a:ext cx="44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тодология управления является учением об организации управленческой деятельности, то есть деятельности субъекта управления. Наука об управлении («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теория управле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» на жаргоне своих представителей) акцентирует свое внимание, в основном, на взаимодействии субъекта управления и управляем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ЛЕКС ЗАДАЧ И ФУНКЦИЙ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5"/>
          <p:cNvGraphicFramePr/>
          <p:nvPr/>
        </p:nvGraphicFramePr>
        <p:xfrm>
          <a:off x="1258920" y="1052640"/>
          <a:ext cx="655308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052640"/>
                    <a:ext cx="655308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8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Object 5"/>
          <p:cNvGraphicFramePr/>
          <p:nvPr/>
        </p:nvGraphicFramePr>
        <p:xfrm>
          <a:off x="1476360" y="1484280"/>
          <a:ext cx="633744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33744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Ы (ВИДЫ)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ГИЧЕСК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82600" y="833400"/>
          <a:ext cx="8618400" cy="5292720"/>
        </p:xfrm>
        <a:graphic>
          <a:graphicData uri="http://schemas.openxmlformats.org/drawingml/2006/table">
            <a:tbl>
              <a:tblPr/>
              <a:tblGrid>
                <a:gridCol w="1519200"/>
                <a:gridCol w="70992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 управленческой 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убъ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убъект управления (индивидуальный или коллективны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ъ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ъект управления и/или управляемый субъект (индивидуальный или коллективны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Элементы управляемой системы, компоненты деятельности управляемого субъекта. Например, для организационных систем: состав системы; структура системы; ограничения и нормы деятельности участников; цели и предпочтения участников; информированность участников; порядок функционир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стояние объекта управления, результат деятельности управляемого субъекта; использованные ресурс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ндивидуальное и коллективное управление; унифицированное и персонифицированн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ектное и процессное управление; рефлекторное (ситуационное) и опережающе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ерархическое управление, распределенное управление и сетев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планирование, организация, стимулирование (мотивация), контрол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ГИЧЕСК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24000" y="719280"/>
          <a:ext cx="8435880" cy="5549760"/>
        </p:xfrm>
        <a:graphic>
          <a:graphicData uri="http://schemas.openxmlformats.org/drawingml/2006/table">
            <a:tbl>
              <a:tblPr/>
              <a:tblGrid>
                <a:gridCol w="1315800"/>
                <a:gridCol w="7120080"/>
              </a:tblGrid>
              <a:tr h="490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 управленческой 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мониторинг и анализ текущего состояния управляемой системы, прогноз развития, целеполагание, выбор технологии деятельности, планирование и распределение ресурсов, стимулирование (мотивация), контроль и оперативное управление, анализ и улучшения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тоды (виды)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пример, для организационных систем: управление составом; управление структурой; институциональное управление (нормативное, управление ограничениями и нормами деятельности); мотивационное управление (экономическое, управление предпочтениями); информационное управление (социально-психологическое, управление информацией, которой обладают управляемые субъекты на момент принятия решени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приказы, распоряжения, указания, планы, стратегии, политики, нормы, нормативы, процедуры, регламенты, положения об организации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1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ханиз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активной экспертизы; внутренних цен; выбора набора проектов; дополнительных соглашений; «затраты-эффект»; институционального управления; информационного управления; компенсационные; комплексного оценивания (агрегирования информации); конкурсные (тендеры); многоканальные; назначения; обмена; опережающего самоконтроля; оптимизации производственного и коммерческого циклов; освоенного объема; противозатратные; распределения ресурса (в том числе – затрат и доходов); самоокупаемости (самофинансирования); синтеза структуры; синтеза состава; смешанного финансирования; согласия; стимулирования; страхования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DC0A-00F0-433E-A03F-E2910828E3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826920"/>
            <a:ext cx="847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орией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называется форма организации достоверного научного знания о некоторой совокупности объектов, представляющая собой систему взаимосвязанных утверждений и доказательств и содержащая методы объяснения и предсказания явлений и процессов данной предметной области, то есть всех явлений и процессов, описываемых данной те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Любая научная теория состоит, во-первых, из взаимосвязанных структурных компонентов. Во-вторых, любая теория имеет в своем исходном базисе центральный системообразующий эле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Центральным системообразующим элементом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ории управлен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(социальными, организационными и др. системами) является категория организации, так как управление – процесс организации, в результате которого в управляемой системе появляется организация как сво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37960" y="131616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етодологи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это учение об организации деятельност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28600" y="2787120"/>
            <a:ext cx="55227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мет методологии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организация человеческ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ИНДИВИДУАЛЬНОЙ ИЛИ КОЛЛЕКТИВ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ЕНИЕ МЕТОД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149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62880" y="3300480"/>
            <a:ext cx="1995480" cy="2738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6056280" y="2320920"/>
            <a:ext cx="314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СМ. САЙТ</a:t>
            </a:r>
            <a:br>
              <a:rPr sz="1800"/>
            </a:b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ETHODOLOG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972E-1E4B-4CC2-AC76-1C00E6AFF2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ОНЕНТЫ ТЕОР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10"/>
          <p:cNvGraphicFramePr/>
          <p:nvPr/>
        </p:nvGraphicFramePr>
        <p:xfrm>
          <a:off x="1116000" y="1125360"/>
          <a:ext cx="6921360" cy="47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25360"/>
                    <a:ext cx="6921360" cy="47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5. ВРЕМЕНН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ременная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ОВАТЕЛЬНОСТЬ РЕАЛИЗАЦИИ ФАЗ ДЕЯТЕЛЬНОСТ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БЪЕКТА УПРАВЛЕНИЯ И УПРАВЛЯЕМОГО СУБЪЕК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6"/>
          <p:cNvGraphicFramePr/>
          <p:nvPr/>
        </p:nvGraphicFramePr>
        <p:xfrm>
          <a:off x="468360" y="1268280"/>
          <a:ext cx="8077320" cy="39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807732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УНКЦИИ И КОМПОНЕНТЫ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7"/>
          <p:cNvGraphicFramePr/>
          <p:nvPr/>
        </p:nvGraphicFramePr>
        <p:xfrm>
          <a:off x="684360" y="1052640"/>
          <a:ext cx="7480080" cy="47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748008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, СТАДИИ И ЭТАПЫ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44"/>
          <p:cNvSpPr/>
          <p:nvPr/>
        </p:nvSpPr>
        <p:spPr>
          <a:xfrm>
            <a:off x="4879800" y="4241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5"/>
          <p:cNvSpPr/>
          <p:nvPr/>
        </p:nvSpPr>
        <p:spPr>
          <a:xfrm>
            <a:off x="4879800" y="4379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70"/>
          <p:cNvSpPr/>
          <p:nvPr/>
        </p:nvSpPr>
        <p:spPr>
          <a:xfrm>
            <a:off x="4879800" y="4761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71"/>
          <p:cNvSpPr/>
          <p:nvPr/>
        </p:nvSpPr>
        <p:spPr>
          <a:xfrm>
            <a:off x="4879800" y="4856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49120" y="831960"/>
          <a:ext cx="8605800" cy="5278320"/>
        </p:xfrm>
        <a:graphic>
          <a:graphicData uri="http://schemas.openxmlformats.org/drawingml/2006/table">
            <a:tbl>
              <a:tblPr/>
              <a:tblGrid>
                <a:gridCol w="2517840"/>
                <a:gridCol w="2425680"/>
                <a:gridCol w="3662280"/>
              </a:tblGrid>
              <a:tr h="2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50560">
                <a:tc row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я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противореч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ц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критер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r" pos="4098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мод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(принятие реш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омпози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г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усло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«технологической» подгот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r" pos="4170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r" pos="4170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стимулирования и мотив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монитор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оперативного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вная ф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учета и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анализа деятельности и ее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коррекции ранее принятых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улучшения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ПРОЦЕСС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83" descr="120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40323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ПРОЦЕСС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35"/>
          <p:cNvSpPr/>
          <p:nvPr/>
        </p:nvSpPr>
        <p:spPr>
          <a:xfrm>
            <a:off x="2732040" y="3182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36"/>
          <p:cNvSpPr/>
          <p:nvPr/>
        </p:nvSpPr>
        <p:spPr>
          <a:xfrm>
            <a:off x="2732040" y="357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48" descr="121"/>
          <p:cNvPicPr/>
          <p:nvPr/>
        </p:nvPicPr>
        <p:blipFill>
          <a:blip r:embed="rId1"/>
          <a:stretch/>
        </p:blipFill>
        <p:spPr>
          <a:xfrm>
            <a:off x="846000" y="1104840"/>
            <a:ext cx="7523280" cy="47577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ПРОЦЕСС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>
            <a:off x="2732040" y="3182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2732040" y="357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122"/>
          <p:cNvPicPr/>
          <p:nvPr/>
        </p:nvPicPr>
        <p:blipFill>
          <a:blip r:embed="rId1"/>
          <a:stretch/>
        </p:blipFill>
        <p:spPr>
          <a:xfrm>
            <a:off x="835200" y="1138320"/>
            <a:ext cx="7662600" cy="429408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6. ЛИТЕРАТУРА К ГЛАВЕ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Бурков В.Н., Новико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Д.А., Коргин Н.А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Введение в теорию управления организационными системам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: Учебник. – М.: Книжный дом «ЛИБРОКОМ»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Бутковский А.Г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К методологии и философии кибернетики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– М.: ИПУ РАН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инер Н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Кибернетика или управление и связь в животном и машине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Наука, 198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Кун Т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Структура научных революций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осква,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Ларичев О.И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Наука и искусство принятия решений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Наука, 197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овиков А.М., Новиков Д.А.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Методология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Синтег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овиков Д.А.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Методология управления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Книжный дом «ЛИБРОКОМ»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овиков Д.А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Теория управления организационными системам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 М.: Физматлит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ерегудов Ф.И., Тарасенко Ф.П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Введение в системный анализ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Высшая школа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овето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 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Б.Я., Яковле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 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.А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Моделирование систем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Высшая школа, 1998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Эшби У.Р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. Введение в кибернетику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Изд-во иностранной литературы. 195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ctr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Все работы, или ссылки на них, можно найти в свободном доступе</a:t>
            </a:r>
            <a:br>
              <a:rPr sz="1700"/>
            </a:b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 в электронной библиотеке на сайте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www.mtas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1187280" y="1413000"/>
          <a:ext cx="6918480" cy="36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691848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5"/>
          <p:cNvSpPr/>
          <p:nvPr/>
        </p:nvSpPr>
        <p:spPr>
          <a:xfrm>
            <a:off x="8101080" y="6243480"/>
            <a:ext cx="4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еятельность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- активное взаимодействие человека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 окружающей действительностью,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 ходе которого человек выступает как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субъект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, целенаправленно воздействующий на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объект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 удовлетворяющий таким образом свои потре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ЕЕ ПОНЯТИЕ О ЧЕЛОВЕЧЕСКОЙ ДЕ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149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501480" y="900000"/>
          <a:ext cx="8107560" cy="52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900000"/>
                    <a:ext cx="810756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5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И КОНКРЕТНЫХ ДЕЯТЕЛЬ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8122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Ь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направленная активность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79280" y="1050840"/>
          <a:ext cx="891072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0840"/>
                    <a:ext cx="891072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5"/>
          <p:cNvSpPr/>
          <p:nvPr/>
        </p:nvSpPr>
        <p:spPr>
          <a:xfrm>
            <a:off x="8113680" y="624348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547640" y="1197000"/>
          <a:ext cx="619128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197000"/>
                    <a:ext cx="619128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3:01:46Z</dcterms:created>
  <dc:creator>Коллектив авторов</dc:creator>
  <dc:description/>
  <dc:language>en-US</dc:language>
  <cp:lastModifiedBy>LEGION</cp:lastModifiedBy>
  <dcterms:modified xsi:type="dcterms:W3CDTF">2016-01-11T10:08:26Z</dcterms:modified>
  <cp:revision>105</cp:revision>
  <dc:subject/>
  <dc:title>МЕТОДОЛОГИЯ УПРАВЛЕНИЯ (опорная презентация по одноименной книге)</dc:title>
</cp:coreProperties>
</file>